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E72-81BA-4625-B670-CE841A1C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FC7-7711-46E1-9F58-962D2DBF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B2C-FC4B-4C67-9F0C-638C43D1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E84-B075-49C9-9EBE-1D05428F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C1D-166F-4CAA-AA23-248651A1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217-304B-4D1F-AEC3-2BB719ED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7DD-C157-4FF3-B4A6-85898ABF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5FB-49F7-4B37-BD51-197A1189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A53-E384-4F05-A739-0A6EEAEC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96F-E2C7-4579-B35D-5EBFCFE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657-B291-45CB-A820-347C8AF6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CDB-0C70-4648-BB7F-7BA1942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7A7-740F-4A90-9A2F-3F6B05262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30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304920"/>
            <a:ext cx="2971800" cy="9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عاةٌ خبِّرونا  هل جرى أمرٌ غر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خبرونا بشِّرونا  ما هذا السرُّ العج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457200"/>
            <a:ext cx="3429000" cy="78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حَ في أوجِ السماء  نيِّرٌ زاه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سمعنا في العلاءِ    والصدى كان يُعي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1320" y="380880"/>
            <a:ext cx="3124080" cy="9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يتَ لحمَ مَن أَتاكِ   مَن غدا فيكِ مُ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ن به زالَ شَقاكِ   مَن هو المولى العظيم</a:t>
            </a:r>
            <a:r>
              <a:rPr b="0" lang="ar-S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9438873JQfExr_ph" descr="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304920"/>
            <a:ext cx="3124080" cy="9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َعلِموا كلَّ العِبادِ   بَشّروا في العال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أتانا اليومَ فادي فابشِرو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3526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الِقُ الأكوان حلَّ  مذوداً للحي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َهوَ في العُليا تَجلّى  فوقَ عرشٍ من جُ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22:14Z</dcterms:created>
  <dc:creator>SUZANNE.MD</dc:creator>
  <dc:description/>
  <dc:language>en-US</dc:language>
  <cp:lastModifiedBy>USER</cp:lastModifiedBy>
  <dcterms:modified xsi:type="dcterms:W3CDTF">2002-12-30T22:36:21Z</dcterms:modified>
  <cp:revision>3</cp:revision>
  <dc:subject/>
  <dc:title>PowerPoint Presentation</dc:title>
</cp:coreProperties>
</file>